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1C7-FB1D-42D9-9836-00B7B729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202D-7278-457D-8400-AC7F0EEB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BAE-5A32-4F8D-B58B-725E3102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9F8-EB39-41F7-AAF7-DFBC45B5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8B35-6148-4BBC-B0E6-40498D1E2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4BB4-1866-4ED4-B39F-B4DEF0A3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4CE7-8570-456E-B148-DFADD01D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ABA7-3581-4DE7-B84F-3573BC92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E383-7BCA-40D5-A9B4-97596595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7657-B674-4BDD-9C30-01144FE8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4D53-8E7F-411A-B80E-2E01F8A3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044-17CA-41EE-9744-579DCBE7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DA8D-A1A9-488B-A644-2C4278B9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8522-AF16-4046-8B86-204FD8C3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077B-F533-4542-B995-33DA812F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2176-E738-4486-B1C7-DC6CFEEDE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6E9C-9B8D-4CEE-AAF8-4B290023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61D-8836-4458-A4A6-76BB45A5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0E27-1D4D-45A0-8D2A-F343666A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7D8-5C3A-40D1-BD33-8077110D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92A6-BA29-4E09-BC3D-D1EF2A4A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3CD-840F-41CE-A259-428DB277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DA0-BC87-4C9B-A62C-66152629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B4C-2DE5-4706-AD00-B8AD1AF4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75A0-25E8-4D12-9877-9F32D06A5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3310-D74F-4FF7-8A83-F3624B6339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The 1950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Visual 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33274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57372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34099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63852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53700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7229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910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2895480" y="1600200"/>
            <a:ext cx="383868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43692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78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90920" y="1523880"/>
            <a:ext cx="460692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10560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347328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537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375732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62247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2:30:02Z</dcterms:created>
  <dc:creator>epilla</dc:creator>
  <dc:description/>
  <dc:language>en-US</dc:language>
  <cp:lastModifiedBy>epilla</cp:lastModifiedBy>
  <dcterms:modified xsi:type="dcterms:W3CDTF">2010-03-24T12:32:52Z</dcterms:modified>
  <cp:revision>2</cp:revision>
  <dc:subject/>
  <dc:title>The 1950s</dc:title>
</cp:coreProperties>
</file>